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15A-EE0E-4400-90D7-1DE83C26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30F-44E6-41E5-9311-17CC382D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8A254-AC37-4D4F-B201-EB231DE4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E543C-4AAE-488A-8326-930FA6DC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DCD2E-A3BC-44A8-8C9D-96B6E84E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3CA7F-03F2-4C1F-9806-4C85B23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FDDD2-75BF-4BC1-91F0-ACA2D170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F613A-F89A-415C-A173-8433356F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500A6-ED81-4EC3-B47B-7E38D9C9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48D22-4F02-4A2A-BF63-385FC335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315CE-14EF-4779-B9DE-AA01E603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01A28-1CC5-46AF-8AA0-7F348D1C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586-C3A9-4070-9858-17BB1395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E9683-6DD2-4B00-936C-4292AFD8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BB76D-A8E9-4B1D-A26A-265DEF59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37BD3-B532-44D1-BF5E-18E602C1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63C7D-2431-4C9F-9681-E46C4F1D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B9DFB-F0C9-4E33-AB61-CC9C4915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92F4D-F73B-46A9-AD0E-BEC984F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590DD-AEB6-4E34-9375-94786F1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E0043-525C-41A4-8B0E-783C902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2785B-B3E6-4490-B277-640DBC8E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BD574-A844-406E-9023-94082AA0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15D-1783-4C17-87E5-A3529021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7E1F6-7A77-44DD-9EEF-8130685B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3530A-52C3-41E3-B766-EDDFCF80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B3CFE-93CF-4041-AC0E-4B48A8A0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0A125-319F-4C6A-A214-363CED45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53059-EC22-4F90-9AA4-A36AB376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1592D-4DE9-44AA-969F-E4D1D5D2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866C-081D-4385-A9A9-5396ECB5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1B5D1-8AB1-415B-8A47-27E647C4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68C17-3222-4D56-8381-FC42A81F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74A7B-F85B-403C-A5E6-186E1053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9CE5-0225-4430-ADCC-8F4BF45E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B6AB7-E660-4FE6-BBB1-73EA12CB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14572-B727-448E-A506-8F342A4F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EB5FB-28A9-4843-B02F-92BB6D93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E77C8-7216-4688-B9B6-7DDA50B7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2C9C8-0B8F-4F94-B130-E260751A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D15AF-DBC2-46A1-BEF5-0DD89AAD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E536A-E3B2-48DE-BD96-C8A8269F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77C12-714F-436E-B2EF-C2E71A4D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3587D-4081-4EF5-8B5A-E9017F58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AA286-C896-4D95-B298-8758020A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13F3-1D9C-49EF-9E97-B2125F6E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96EA9-F420-4EA7-B123-0994A401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38630-984C-4E80-BCF1-229BB346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983B9-8AF8-4B43-8E0B-A07C0B8A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0B2C2-9C35-42D0-8DF7-8B3D30BD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DCAF5-62BC-42D2-BA43-78EAC739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50E72-83A9-4A7E-BC58-FB87D867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3FFFD-8DB1-461E-B161-82047063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36877-54C4-4031-82A2-E735B3AC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71569-9615-4F5D-81B8-2779CBFD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BAAC1-13A9-4EF6-89FD-DF07D58C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7966-4148-4BA9-837E-5B1F811F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BA43C-3A53-4FA1-89BA-E487C303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A7395-F16A-4812-8F04-D449E333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686AB-0D44-495B-A6C0-B77814B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F2BB9-6358-4855-9042-C79F41A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19A6F-87E8-491E-822D-DB774E45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6D69E-71B3-43BA-9581-909EEAB0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A86C6-1C58-4B49-B7D0-3E98DC61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6B065-5A30-4F46-970F-29472FC2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3CC01-20F6-4783-887E-EC6CC9CD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BD1B8-E7C8-421A-AEA8-322CEE68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5EB3-3D5A-41C1-9E05-48B9B9F7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94D01-5ADE-43D4-9D7A-0F5DA311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EDD9A-9B4C-4552-9ABD-68699E0E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E159F-B3AF-4DF9-B520-C311BA22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DAD61-00B0-4FB4-98AB-A90101A8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328DD-3490-409E-ADC6-5F25480E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CD401-B4AD-48E0-ADE3-535DA134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F1D37-A13C-47A5-A23F-6EFA91CA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C6A92-1290-438F-9727-066125E2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FE76A-584A-477D-BD0C-0B0FE4F6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09F9B-4BE7-4A66-A048-3AF4B03C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CE2B-287F-4F1C-B232-BC4A5EEB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2F916-47EE-490C-A73D-B4AE80F0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F47B2-1E46-4755-802C-DB1BEE0F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B0249-9DEE-4B20-8F9F-FA9DEF9B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117AC-5DE0-410B-B9A4-F856075A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BDE10-5D7B-41F8-8335-B5F8B06D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281A0-BD42-4E1D-B1E2-96B0B4D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BC218-0723-4E18-90B6-D5429779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125D3-5FE3-44FB-9AF3-9839E5CF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F4D6C-13E6-4E38-BFBD-4F2D1877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8FF32-5BF4-44DC-8F34-ABF192E3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E21F-B34A-4FFF-8FDA-2F5F0C5A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8806F-7833-4F44-A1D0-250E27C5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2586B-D3EF-4553-8F88-DD8C6E52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27C9A-D8A5-410B-9D5A-593B8114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FD057-961B-4F2A-AE84-D609D6D5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FEFF9-4980-47BD-96B1-A520BBDB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42920-581A-4D4C-B4DC-FB4D3A41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4E44E-21C0-4D5E-85BD-2E8F7C49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DC781-EBE6-4144-BCD9-F3A82E1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1BBBA-BC5E-47D3-9E85-EE2DC1C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BEDC3-D7B8-48C1-8778-6DCA9D1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E63B-A7F0-4CB0-9ABE-F2444AC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E95EA-1493-4D9E-9932-74AB8A3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15A29-2A6B-4ACD-B2D8-A8F0A168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E955E-1CCE-4B50-BBE5-0D1905F2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083E3-FDA3-49F0-83D6-FC5AF269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71DED-23BC-4EA3-9B10-65763A50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49F9C-57B0-47BA-A933-7A554B75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B26F4-36F1-4C7A-A5CE-A70F43CD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768A7A-9B04-4D3D-B0F4-F59CCE6B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8EAD3-DA99-4120-A6CF-897DD22D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45FFD-80DC-41C5-9758-F079CD4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981-D64D-4D4E-8B4D-2FDD2ACA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6FFE-5215-459E-86DA-9869649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32EE6-53FC-4C04-AEB0-602780B9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57B32-BBBD-4733-AE4D-EE32EAE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E21E7-38C8-41A1-9AA6-B453BFD8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2820A-B123-4334-850C-D657E352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BA959-8794-4751-B488-2861B836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BA2B8-0C10-49C7-9AC6-B6F3861A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F85BF-C16D-43C2-B7E9-C164B057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FB566-F3DD-40F0-93A6-B04F01B8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EF6516-529C-46D1-9554-D5597B39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D54C3-C140-4F76-80CE-D172FEE3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0D8B-75AC-4664-B929-294867C0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795508-EA82-4FAE-BA19-3B017086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CBADC-0942-4AD7-8199-C4145487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12AFE-826F-4C80-8122-B99C8755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3AE73-C8DA-4FED-BB56-89DF142D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A5768-5724-4E06-A3A8-9E339D6B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32F9FC-FCE1-443E-BB9C-CC269701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E2AD8-D344-404A-8190-0153D42F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C4B909-BE58-40EE-BB1B-72ABB3B7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159AE8-45BB-4C37-87A1-6E823AD8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93CA7-16A7-4C01-98FD-C89155CF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5865-EE65-456E-A061-FC1FEE29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C4A61C-80EF-4BA2-A875-93083E79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DD81B-50B0-4850-8F80-A4E44F8A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F5A55-AEFA-48F2-BB20-3FA426FB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CAC9FF-E1B3-443B-A672-956E1AB2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326C5-B513-4DFD-B72A-40927DD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990A20-251C-4891-BDFD-E3E92919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3ADC9-764A-4F4E-9D2D-30CF1F97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12C4E-08CB-48D3-A220-9CD9F70D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DC7ED-AF97-453C-BD56-E6AA5B4C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E8B64-95A8-4A42-B289-913E6171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CF27-B430-42DE-9D0D-E16F7A3A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055F8-5F66-4E0C-840D-173201D1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4D1C7A-C2A9-4592-8860-90318DF6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0D912-DD9D-4491-A1A8-3B81C349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5CB29-69AE-4228-9668-B38C3AC3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896CDF-DE29-4457-A82E-A6C2CD4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DEDD67-A62C-41C3-AC6B-48A94525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5EC91-D857-4F2E-8A24-282C8130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E5D39-C559-4E3D-93AA-165285D3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391F0-03B3-4E4F-BC99-80DD0162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2778D4-9157-4061-979B-2CA53FD4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DDE2-6C19-4E05-82A5-A51C6615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8028E7-037B-4E00-8AE4-C497F28F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5D906-0E13-4629-B3F5-3EE713B8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E62F9-B44F-457E-BB58-E875FB1F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8FC328-F7AE-4E1A-84B2-E4EA1C07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038546-F5E2-46EC-ABC2-C2CB0B6E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183CFE-EF79-4B8B-99FE-A18682E4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73CB8-E712-4F2B-BF75-BCA3468F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BE781-2826-40DF-8AAB-F733C5DD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B42B0A-018E-4396-A945-5C78D2D8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BDF80D-EA35-40A6-ADC2-8A1DBE16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CBC5-1211-4DE0-9100-D6F52B7A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60C0B-BB89-42BB-9353-B17C3AA9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CED4E-8DD5-4C09-8FD2-6BE3CFF3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28F244-D8F9-4F5A-AA0D-53637C00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D676-5A99-4D1B-80BD-0532B97E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CD34-3CF6-41F3-B859-F6462BC5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E39E-0132-4651-9FD5-12AA3C45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35A1-CCBA-4289-A916-732BE78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F94-8D45-4AC8-A800-E5E80FD6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2238B-EC33-41D9-9A50-768F6E18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B2F1-D0A3-4417-A151-BD56B381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F6B7-15B5-4633-8FF9-F1C5E1A0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FE34-7D87-482D-80AE-B10ABD28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BC86-03F5-4A93-B7B7-8084D09E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342E-C161-4B78-AADA-3423A919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EF70-1753-4B81-8FE6-3BF451C3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7C8B-D737-40FA-ADCA-3E845CA2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BA481-FC13-47E0-82FC-766F3987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31478-BBF3-486A-ADD9-05C68294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51D-9AB5-4AF2-B5D5-8955651A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865A-8D9A-45EA-9B5E-67FC43F1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BC14-9CED-44FD-B346-714783A5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42FE7-145E-4887-9A9E-06EB6371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72EA-EF63-4EDE-BEBC-00E76AC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BACD-80ED-483B-B4A0-FB006661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3BC38-F2D3-4EF7-9BB1-A90A67B0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3C4D-F299-474A-8D5D-C39FE03A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405B-626D-4CC0-B158-DAC07ADF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5306-05EA-4E54-B812-342EDF11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03D0-CA83-4093-8AEA-0B26BDC2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03C-EA90-4C8C-9511-1DC81C7C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965B8-DA5D-4938-A5D3-95B67C9C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7BECD-A013-4725-BB53-495DDB62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2BDBF-3C1D-468A-A849-B8962025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F0BDA-D946-4AC8-B177-49699230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FCC1-A59E-426B-91BD-AE9F7F1A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1A94-6A7C-4842-BE5A-067CBDC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FD7C-0666-468C-B8C7-7955AC7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10AF5-7BB6-4480-B041-E3608AB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5CC5B-3067-4E61-910D-6BF237E3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AD8EF-A1CA-4B7D-B018-D2314EDD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D33-5890-4D45-9844-BDB970DF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1189E-97A6-45B0-8823-ECB8CAAB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5A99-FC6F-4582-9A1D-6E47FACA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7F89E-5790-49D9-AC25-33DA2CBC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3A788-1E06-4058-877B-0393F88B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AD619-DC41-4244-BFB0-1CFCF333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DB91E-33EE-4652-8784-0722A529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78837-BE14-4303-8398-CB576937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6CFB3-0B98-43FD-8E66-83AC6B4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04ABF-61DC-493C-BFEA-7716E8F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427A-4652-4B8A-ADF4-D3D07C4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D32-A4E5-4A76-8450-D711E92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41D9D-5C40-4DB5-A108-80FFA674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FAF7-F9DF-49E1-8607-D2463FBD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EA6C-A884-49CF-B7E2-B26EA5EA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D7C6D-796A-42DD-9D88-324F4C88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77912-6F1B-4344-85C5-1133522D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EE78D-5197-49D4-B734-D4EF6975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FA5B-52C7-46FF-95CF-244901D1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F439F-44BD-4265-B4D5-E7385E18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9B55-F7CE-4A64-83E9-1127D705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DA710-1937-484B-99FF-B997FD6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624-EB9B-49AC-BFE8-7D81AC1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B8153-4B49-49F7-B3CD-A69A34B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3AA26-1FD2-47AD-BA85-945DA7D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35831-5D88-42A5-A3A7-173A59D7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7DDE-5C3E-439C-BAB4-13F6B0A0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D5992-42C9-4A8C-B21F-E6AB5F44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023E0-0954-4CF9-8789-4B4B713A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9CA81-4FCD-4209-8339-E65D0EE8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75D34-B2E1-4788-88F2-2B560219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2699E-5FAB-4BE8-9C45-8669DFAB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15390-7EBD-44AB-B28B-0816E9EF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FAE-BCB4-4B8D-8F89-033E660A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31E00-3F4A-42EB-931B-B636116D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51C6E-26AD-44DA-807D-36F5D14F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756DB-3D2B-4CC1-81F7-650F8D94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1D3C3-343B-48D5-A5AF-07EF91B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34AE2-324C-4E04-9B0A-59FF589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37D77-2868-427D-B8DF-1BB27913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5E176-D2AD-49B4-9D17-7F2ED3B7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1BC7E-B44B-4913-B120-D3FA674C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0992F-B03F-4345-9B93-D7BE665E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5B65B-D3AF-4831-BD5D-D28EF523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C50D-FD31-4775-8C0C-BB815AFE4E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D05D-1C64-4207-A2AF-B2714518D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813-9A07-4813-BAC1-FBF8534F1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5D01-743C-4778-BF57-CF43CE3D7E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4DBB-FB6E-4BFD-9E25-9A8D6EF67C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DABD-6E4D-46EB-9CF0-1A89411810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5318-E486-41B6-B26D-312B9878C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C785-7709-4761-9924-F6937AF57F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32CD-41F2-47B9-897C-82676276A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0C4B-E365-4788-B251-B14221DC43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C185-6B25-476B-942C-1EDCE09C42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A7D-6904-4A95-8015-07900C2C1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FCA3-DEB2-42C2-88A1-633174FE5C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02EC-8425-46CC-828C-E5AB2D56B5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2E99-399E-4AC6-8F18-8C47F093BD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5A69-2A1F-4947-B14D-1E3CD004D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AED9-F478-4640-8AD6-0690EE5FF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10F5-E811-46EF-A843-0EB7E8FDE4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6EB3-362A-431E-82C1-410714C1B7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AF71-EA2E-41FA-8D00-ECEBEBB44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AF99-2D75-4718-99B2-FF7C6A730F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7F3D-7C0B-4EC3-BFFC-4322B5EF9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5A05-E57C-4716-B4DE-793CE2EC6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ABB-734C-484C-86DB-7D6C1F5618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204B-7EB5-45FF-83C6-FE6891DB4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D565-78CA-4274-8FF1-1E339FD71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31B1-C23B-4953-8AEC-142DB3A7FA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7D88-D672-4525-95A9-56EDB46E41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4348-5145-4377-8CD1-4B86D3CB20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3B2B-F168-4AAD-9643-78B12DE649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E04C-586C-4CC7-A025-080A039908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3771-998A-4A83-82E4-251B030018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4E0A-84CA-45BF-869A-A88F9B0C00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D69D-FAA4-4AB2-8E84-FD1D75802D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DA77-691A-48DD-851A-F1ECDCE62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C5C5-111F-4EA3-9D3B-A0F02E880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804D-91FA-454A-861B-DE8EC141C5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24B9-3AD4-45B2-A41F-8BA673C00D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BCC2-603C-4A6E-BBC2-D2373C1718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5219-091D-4358-8A63-D86797C898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23960" y="2986200"/>
            <a:ext cx="769608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69633" descr=""/>
          <p:cNvPicPr/>
          <p:nvPr/>
        </p:nvPicPr>
        <p:blipFill>
          <a:blip r:embed="rId1"/>
          <a:stretch/>
        </p:blipFill>
        <p:spPr>
          <a:xfrm>
            <a:off x="509760" y="1038240"/>
            <a:ext cx="8124480" cy="4781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611280" y="1038240"/>
            <a:ext cx="770580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770580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770580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682560" y="3068640"/>
            <a:ext cx="770580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755640" y="3760920"/>
            <a:ext cx="7993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8609" descr=""/>
          <p:cNvPicPr/>
          <p:nvPr/>
        </p:nvPicPr>
        <p:blipFill>
          <a:blip r:embed="rId1"/>
          <a:stretch/>
        </p:blipFill>
        <p:spPr>
          <a:xfrm>
            <a:off x="1252440" y="1052640"/>
            <a:ext cx="6639120" cy="226692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68610" descr=""/>
          <p:cNvPicPr/>
          <p:nvPr/>
        </p:nvPicPr>
        <p:blipFill>
          <a:blip r:embed="rId2"/>
          <a:stretch/>
        </p:blipFill>
        <p:spPr>
          <a:xfrm>
            <a:off x="781200" y="3400560"/>
            <a:ext cx="7581600" cy="2333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447192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236000" y="1628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23600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2050920" y="40053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2124000" y="4653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4788000" y="4005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4861080" y="4653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7596360" y="40482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626240" y="46958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00120" y="776160"/>
            <a:ext cx="7943760" cy="5305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16360" y="2752560"/>
            <a:ext cx="1511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19640" y="3213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804000" y="2681280"/>
            <a:ext cx="151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866880" y="1747800"/>
            <a:ext cx="7410240" cy="3362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2521080" cy="27367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627280" y="1773360"/>
            <a:ext cx="165744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003640" y="2421000"/>
            <a:ext cx="2881440" cy="27367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516720" y="1773360"/>
            <a:ext cx="165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452520" y="190440"/>
            <a:ext cx="8238960" cy="64771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3924360" y="98100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197240" y="400680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324000" y="758880"/>
            <a:ext cx="8496000" cy="5838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826920" y="4551480"/>
            <a:ext cx="590580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508464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55640" y="560376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826920" y="6149880"/>
            <a:ext cx="5905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457200" y="1924200"/>
            <a:ext cx="82296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8001000" cy="4143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042920" y="276696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042920" y="342900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042920" y="4135320"/>
            <a:ext cx="7416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1195560" y="2347920"/>
            <a:ext cx="6752880" cy="21621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835280" y="319716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59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257040" y="866880"/>
            <a:ext cx="862992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33:1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